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F1E8-7B93-4A42-AF84-B43D7C72D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3D4C-7A1B-4735-90CF-4C11433B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F295-AA8A-4C91-A723-601688245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69EB-4DA3-4178-B534-4460ED327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5BF3-1BA3-4BFC-90BC-814C4F2B5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8730-1A10-47E5-82B7-3878261B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17B5-AC7B-45EA-AA2F-EB711709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7D6B-E9AE-4309-8F16-B216E2F4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5FC1-A3A2-497D-8019-9E2141DA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71A3-8F1C-4043-ADA0-EFC60AC9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4492-2F54-4CFE-9A63-F73A3187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7AEE-A995-4983-90E4-205E4375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E167-55A2-42F1-978C-C9EA9041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848F-275D-49C5-A4F4-08540C84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D2CE-F1DD-48AD-B524-E50D09D8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D205-93CF-4514-92C6-21783C7B8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7EF2-5D67-470C-9857-C18E6D843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EDC2-5AC7-49B0-A2E3-C19171A5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4D0E-2A2F-48C8-A498-ACC56233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102C-454A-4369-959B-AE997D6E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BEF5-9413-4D59-B02D-E342BF5D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1319-D406-459D-914C-AF64D75A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D384-3F48-4A7E-9E2F-4CA83E9B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26E7-4A8C-49E5-9475-738A64D1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7732-A37E-44E8-AAED-DE09DFAA48D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499B-016B-4F69-8B89-CC4086384ED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s-help://MS.VSCC.v90/MS.MSDNQTR.v90.en/fxref_mscorlib/html/15673f3e-3d77-4366-37c1-5592a96fec3c.htm" TargetMode="External"/><Relationship Id="rId2" Type="http://schemas.openxmlformats.org/officeDocument/2006/relationships/hyperlink" Target="ms-help://MS.VSCC.v90/MS.MSDNQTR.v90.en/fxref_mscorlib/html/a8719fb1-6240-4b55-477d-99c87edef939.htm" TargetMode="External"/><Relationship Id="rId3" Type="http://schemas.openxmlformats.org/officeDocument/2006/relationships/hyperlink" Target="ms-help://MS.VSCC.v90/MS.MSDNQTR.v90.en/fxref_mscorlib/html/a8719fb1-6240-4b55-477d-99c87edef939.htm" TargetMode="External"/><Relationship Id="rId4" Type="http://schemas.openxmlformats.org/officeDocument/2006/relationships/hyperlink" Target="ms-help://MS.VSCC.v90/MS.MSDNQTR.v90.en/fxref_mscorlib/html/719f1b52-1029-155e-1b5f-70335ab4f36c.htm" TargetMode="External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228600" y="76320"/>
            <a:ext cx="8610480" cy="6728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 Write a program in C# to build a class which implements an interface which is already existing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class Point : </a:t>
            </a:r>
            <a:r>
              <a:rPr b="1" sz="1500" spc="-1" strike="noStrike">
                <a:solidFill>
                  <a:srgbClr val="000000"/>
                </a:solidFill>
                <a:latin typeface="Times New Roman"/>
              </a:rPr>
              <a:t>ICloneabl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int x, y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Point() { 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Point(int x, int y) { this.x = x; this.y = y; 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// Return a copy of the current object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object Clone(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//return new Point(this.x, this.y);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return this.MemberwiseClone();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override string ToString(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return string.Format("X = {0}; Y = {1}", x, y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// Notice Clone() returns a generic object type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// You must perform an explicit cast to obtain the derived type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oint p3 = new Point(100, 100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oint p4 = (Point)p3.Clone(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// Change p4.x (which will not change p3.x)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4.x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// Print each object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Console.WriteLine(p3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Console.WriteLine(p4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4920" y="152280"/>
            <a:ext cx="8610480" cy="6129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void update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f (lst.Count ==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\n LL is empty !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("\n Enter the position of the element to update : 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nt i = int.Parse(Console.ReadLine(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f (i &gt;= 1 &amp; i &lt;= lst.Cou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("\n Enter the data to update at the position {0} : ", i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tring str = Console.ReadLin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lst[i-1] = st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\n Data at position {0} is changed to {1}", i, str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\n Invalid position ! 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228600"/>
            <a:ext cx="8686800" cy="6192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ass GenListDe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LinkedList LL = new LinkedList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nt i=1, ch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while(i==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Clear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 ************************************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   Welcome to LINKED LIST Operations.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 ************************************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 1-----&gt; INSERTION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 2-----&gt; DELETION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 3-----&gt; UPDAT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 4-----&gt; STATUS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 5-----&gt; EXIT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 ************************************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("\n\n Enter your choice: 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h = int.Parse(Console.ReadLine()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8600" y="228600"/>
            <a:ext cx="8686800" cy="6129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witch (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ase 1: LL.insert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ase 2: LL.dele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ase 3: LL.update(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ase 4: LL.status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ase 5: Environment.Exit(-1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default: Console.WriteLine(" Sorry !!! Wrong  choice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("\n\n Press ENTER to Continue: 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ReadLin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\n End of LINKED LIST operations... Bye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304920" y="1873080"/>
            <a:ext cx="8839080" cy="1555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6699"/>
                </a:solidFill>
                <a:latin typeface="Times New Roman"/>
              </a:rPr>
              <a:t>Callback Interfaces, Delegates,</a:t>
            </a:r>
            <a:br>
              <a:rPr sz="4800"/>
            </a:br>
            <a:r>
              <a:rPr b="0" lang="en-US" sz="4800" spc="-1" strike="noStrike">
                <a:solidFill>
                  <a:srgbClr val="666699"/>
                </a:solidFill>
                <a:latin typeface="Times New Roman"/>
              </a:rPr>
              <a:t>and Ev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6320" y="76320"/>
            <a:ext cx="899136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derstanding Callback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685800"/>
            <a:ext cx="8839440" cy="46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faces define a behavior that may be supported by various typ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 our syste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yond using interfaces to establish polymorphism, interfaces ma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lso be used as 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allback mechanis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technique enables objects to engage in a two-way conversa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using a common set of memb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illustrate the use of callback interfaces, let’s update the familia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ar type in such a way that it is able to inform the caller when it i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bout to explode and has explod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ility to send and receive these events will be facilitated with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ustom interface named IEngineEv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5257800"/>
            <a:ext cx="8686800" cy="1465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interfac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EngineEvents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The callback interfa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oid AboutToBlow(string msg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oid Exploded(string msg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52280" y="76320"/>
            <a:ext cx="8839440" cy="33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ent interfaces are not implemented directly by the object which i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irectly interested in receiving the events, but rather by a help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bject called a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sink objec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ender of the events (Car type in this case) will make calls on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ink under the appropriate circumstan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ume the sink class be CarEventSink, which simply print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ut the incoming messages to the conso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4920" y="3048120"/>
            <a:ext cx="8686800" cy="375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Car event sin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class CarEventSink : IEngineEv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rivate string nam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CarEventSink() {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CarEventSink(string sinkNam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 name = sinkName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oid AboutToBlow(string ms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 Console.WriteLine("{0} reporting: {1}", name, msg)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oid Exploded(string ms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 Console.WriteLine("{0} reporting: {1}", name, msg)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228600" y="152280"/>
            <a:ext cx="876312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w we have a sink object that implements the event interface, ou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ext task is to pass a reference to this sink into the Car typ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ar holds onto the reference and makes calls back on the sin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order to allow the Car to obtain a reference to the sink, we wil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eed to add a public helper member to the Car type that we will cal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Advise()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kewise, if the caller wishes to detach from the event source, it ma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all another helper method on the Car type named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Unadvise(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 order to allow the caller to register multiple event sinks, the Ca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ow maintains an ArrayList to represent each outstand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nnec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52280" y="76320"/>
            <a:ext cx="8763120" cy="5277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This Car and caller can now communic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using the IEngineEvents interf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class C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The set of connected sink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rrayList clientSinks = new ArrayList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Attach or disconnect from the source of ev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oid Advise(IEngineEvents sin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ientSinks.Add(sink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oid Unadvise(IEngineEvents sin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ientSinks.Remove(sink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55180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send the events, let’s update the Car.Accelerate() method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terate over the list of connections maintained by the ArrayList an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ire the correct not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4480" y="76320"/>
            <a:ext cx="8991360" cy="6548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class C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const int maxSpeed = 10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rivate int currSpeed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rivate string petNam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rivate bool carIsDead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Car() {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Car(string name, int currSp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urrSpeed = currS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etName = nam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// The set of connected sink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ArrayList clientSinks = new ArrayList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// Attach or disconnect from the source of event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void Advise(IEngineEvents sink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lientSinks.Add(sink)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void Unadvise(IEngineEvents sink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lientSinks.Remove(sink)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52280" y="228600"/>
            <a:ext cx="8763120" cy="5691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void Accelerate(int delt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// If the car is 'dead', send Exploded event to each sin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if (carIsDead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foreach (IEngineEvents e in clientSink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e.Exploded("Sorry, this car is dead...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urrSpeed += del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// Send AboutToBlow eve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if (10 == maxSpeed - currSpeed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foreach (IEngineEvents e in clientSink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e.AboutToBlow("Careful buddy! Gonna blow!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if (currSpeed &gt;= maxSpeed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arIsDead = tr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"\tCurrSpeed = {0} ", currSpee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52280" y="152280"/>
            <a:ext cx="8763120" cy="6677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Demonstrating C# properti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lass SimpPr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nt pro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SimpProp(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rop = 0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int MyPr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return pro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f (value &gt;=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rop = val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U r trying to assign a -ve value...!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28600" y="228600"/>
            <a:ext cx="8686800" cy="5887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Make a car and listen to the ev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class CarAp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***** Interfaces as event enablers *****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ar c1 = new Car(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x4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", 1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Make sink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arEventSink sink = new CarEventSink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Pass the Car a reference to the sin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1.Advise(sink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Speed up (this will trigger the event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or (int i = 0; i &lt; 10; i++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1.Accelerate(2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Detach from event sour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1.Unadvise(sink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ReadLine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8600" y="152280"/>
            <a:ext cx="8686800" cy="627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onsole.WriteLine("***** Interfaces as event enablers *****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ar c1 = new Car("SlugBug", 10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// Make 2 sink objec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onsole.WriteLine("***** Creating sinks *****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arEventSink sink = new CarEventSink("First sink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arEventSink myOtherSink = new CarEventSink("Other sink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// Hand sinks to Ca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onsole.WriteLine("\n***** Sending 2 sinks into Car *****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1.Advise(sink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1.Advise(myOtherSink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// Speed up (this will generate the events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onsole.WriteLine("\n***** Speeding up *****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for (int i = 0; i &lt; 10; i++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1.Accelerate(20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// Detach first sink from ev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onsole.WriteLine("\n***** Removing first sink *****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1.Unadvise(sink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// Speed up again (only myOtherSink will be called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onsole.WriteLine("\n***** Speeding up again *****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for (int i = 0; i &lt; 10; i++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1.Accelerate(20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// Detach other sink from ev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onsole.WriteLine("\n***** Removing second sink *****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1.Unadvise(myOtherSink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onsole.ReadLin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52280" y="15228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derstanding the .NET Delegate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914400"/>
            <a:ext cx="8686800" cy="53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storically speaking, the Windows API makes frequent use of C-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tyle function pointers to create entities terme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allback  functions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 simply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allback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ing callbacks, programmers were able to configure one func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report back to (call back) another function in the applic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roblem with standard C-style callback functions is that the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present little more than a raw address in mem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traditional callback functions, there can be a frequent source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bugs, hard crashes, and other runtime disas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the .NET Framework, callbacks are still possible, and thei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unctionality is accomplished in a much safer and more object-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riented manner using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legat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8600" y="228600"/>
            <a:ext cx="86868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elegate is a type-safe object that points to another method in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pplication, which can be invoked at a later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elegate type maintains three important pieces of inform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am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 the method on which it makes ca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rgument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if any) of this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turn valu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if any) of this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ce a delegate has been created and provided the requir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information, it may dynamically invoke the method(s) it points to 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run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2280" y="15228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ng a Delegate in C#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838080"/>
            <a:ext cx="86868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we want to create a delegate in C#, we make use of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legate keywor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name of our delegate can be whatever we wish. We mus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fine the delegate to match the signature of the method it wil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point 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3124080"/>
            <a:ext cx="8610480" cy="1191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This delegate can point to any method, taking two integers and // returning an  integ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delegate int BinaryOp(int x, int y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4495680"/>
            <a:ext cx="87631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the C# compiler processes delegate types, it automaticall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generates a sealed class deriving from System.MulticastDeleg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class provides the necessary infrastructure for the delegate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hold onto the list of methods to be invoked at a later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2280" y="152280"/>
            <a:ext cx="8763120" cy="39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generated BinaryOp class defines three public meth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oke() is the core method, as it is used to invoke each metho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aintained by the delegate type in 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ynchronou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ner, means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aller must wait for the call to complete before continuing on it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ynchronous Invoke() method i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o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rectly callable from C#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but Invoke() is called behind the sce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ginInvoke() and EndInvoke() provide the ability to call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urrent metho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synchronously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 a second thread of exec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3040" y="4127400"/>
            <a:ext cx="8839440" cy="253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ealed class BinaryOp : System.MulticastDeleg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BinaryOp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(object target, uint functionAddres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int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Invok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(int x, int y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IAsyncResult BeginInvok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(int x, int y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syncCallback cb, object state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int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EndInvok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(IAsyncResult result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" y="228600"/>
            <a:ext cx="868680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ice that the parameters and return value defined for the Invoke(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thod exactly match the definition of the BinaryOp delegat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nitial parameters to BeginInvoke() members are also based 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BinaryOp delegate; BeginInvoke() will always provide two fina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parameters (of type AsyncCallback and object) that are used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acilitate asynchronous method invoca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lly, the return value of EndInvoke() is identical to the origina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legate declaration and will always take as a sole parameter a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bject implementing the IAsyncResult inte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8600" y="7632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implest Possible Delegate Ex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914400"/>
            <a:ext cx="8763120" cy="4972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 This delegate can point to any method, taking two integers and returning 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integ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public delegate int BinaryOp(int x, int y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This class contain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inaryOp will point 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class SimpleMa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atic int Add(int x, int 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return x + y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atic int Subtract(int x, int 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return x-y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228600"/>
            <a:ext cx="8686800" cy="5582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ass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***** Simple Delegate Example *****\n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Create a BinaryOp object th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"points to" SimpleMath.Add(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inaryOp b = new BinaryOp(SimpleMath.Add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Invoke Add() method using deleg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10 + 10 is {0}", b(10, 10)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inaryOp bb = new BinaryOp(SimpleMath.Subtract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10 - 10 is {0}", bb(10, 10)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ReadLine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0800000">
            <a:off x="6172200" y="228600"/>
            <a:ext cx="2666880" cy="2209680"/>
          </a:xfrm>
          <a:prstGeom prst="wedgeRectCallout">
            <a:avLst>
              <a:gd name="adj1" fmla="val 80833"/>
              <a:gd name="adj2" fmla="val -50148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n you want to insert the target method to a given delegate, simply pass in the name 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thod to the delegate’s construct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1522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’s see another example. Assume you have defined a delegat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ype that can point to any method returning a string and receiv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ree System.Boolean input paramete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447920"/>
            <a:ext cx="8839440" cy="459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delegate string MyDelegate(bool a, bool b, bool c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2209680"/>
            <a:ext cx="8839440" cy="253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ealed class MyDelegate : System.MulticastDeleg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MyDelegat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(object target, uint functionAddres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ring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Invok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(bool a, bool b, bool c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IAsyncResult BeginInvok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(bool a, bool b, bool c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syncCallback cb, object state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ring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EndInvok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(IAsyncResult result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495288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egates can also “point to” methods that contain any number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ut or ref parameters. For ex., assume the following delegate typ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5867280"/>
            <a:ext cx="8915400" cy="459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delegate string MyOtherDelegate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l a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l b, int c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52280" y="228600"/>
            <a:ext cx="8839440" cy="4208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lass PropertyDe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static void Main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impProp ob = new SimpProp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Original value of ob.MyProp: " + ob.MyProp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ob.MyProp = 100; // assign 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Value of ob.MyProp: " + ob.MyProp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Attempting to assign -10 to ob.MyProp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ob.MyProp = -1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Value of ob.MyProp: " + ob.MyProp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600" y="16524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ignatures of the Invoke() and BeginInvoke() methods look a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you would expect; however, check out the EndInvoke() method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hich now includes the set of all out/ref arguments defined by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legate typ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0440" y="1905120"/>
            <a:ext cx="8839440" cy="253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led clas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yOtherDelegat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System.MulticastDeleg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yOtherDelegat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object target, uint functionAddres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l a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l b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IAsyncResult BeginInvoke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l 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re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l 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c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yncCallback cb, object state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Invoke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l 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re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l 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AsyncResult result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47242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summarize, a C# delegate definition results in a sealed clas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ith three compiler-generated methods whose parameter and retur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ypes are based on the delegate’s declar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28600" y="7632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mbers of System.MulticastDeleg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685800"/>
            <a:ext cx="88394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we build a type using the C# delegate keyword, you indirectl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clare a class type that derives from System.MulticastDelegat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class provides descendents with access to a list that contains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ddresses of the methods maintained by the delegate type, as well a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everal additional methods (and a few overloaded operators)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teract with the invocation li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3124080"/>
            <a:ext cx="8686800" cy="3111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abstract class MulticastDelegate : Deleg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Metho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sealed override Delegate[] GetInvocationList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Overloaded opera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static bool operator ==(MulticastDelegate d1, MulticastDelega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2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static bool operator !=(MulticastDelegate d1, MulticastDelegat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2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IntPtr _invocationCoun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object _invocationLis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52280" y="22860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.MulticastDelegate obtains additional functionality from it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parent class, System. Delegate. Here is a partial snapshot of the clas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fini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4160" y="1523880"/>
            <a:ext cx="8762760" cy="4972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erializable, ClassInterface(ClassInterfaceType.AutoDual)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abstract class Delegate : ICloneable, ISerializ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Delegate Combine(params Delegate[] delegate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Delegate Combine(Delegate a, Delegate b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irtual Delegate[] GetInvocationList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Delegate Remove(Delegate source, Delegate value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Delegate RemoveAll(Delegate source, Delegate value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Overloaded oper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bool operator ==(Delegate d1, Delegate d2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bool operator !=( Delegate d1, Delegate d2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Proper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MethodInfo Method { get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object Target { get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883944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8600" y="7632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derstanding (and Using) 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685800"/>
            <a:ext cx="8686800" cy="64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egates are fairly interesting constructs because you can resolv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name of a function to call at runtime, rather than at compile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cause the ability for one object to call back to another object i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uch a helpful construct, C# provides the event keyword to lesse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burden of using delegates in the ra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ost prevalent use of the "event" keyword would be found i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GUI-based applications, in which Button, TextBox, and Calenda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idgets all report back to the containing Form when a given ac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(such as clicking a Button) has occur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all that the current implementation of Car.SpeedUp() throws a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xception if the user attempts to increase the speed of an automobil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at has already been destroy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s not a good way because, the exception has the potential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halt the program's execution if the error is not handled in an elega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ann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2280" y="76320"/>
            <a:ext cx="87631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better design would be to simply inform the object user when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ar has died using a custom event, and allow the caller to ac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ccording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ing an event is a two-step process. First, you need to define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legate that contains the methods to be called when the event i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ir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xt, you declare the events (using the C# event keyword) in term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f the related deleg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28600" y="152280"/>
            <a:ext cx="8686800" cy="405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This car can 'talk back' to the us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C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Is the car alive or de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bool carIsDea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Holds the function(s) to call when the event occu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delegate void EngineHandler(string msg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This car can send these eve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ven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ineHandler Explode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ven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ineHandler AboutToBlow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52280" y="220680"/>
            <a:ext cx="8839440" cy="640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Fire the correct event based on our current state of affai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void SpeedUp(int delt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If the car is dead, send exploded ev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carIsDea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Exploded != nul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oded("Sorry, this car is dead..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Speed += delta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Almost dead? Send about to blow ev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10 == maxSpeed - currSpe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AboutToBlow != nul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outToBlow("Careful, approaching terminal speed!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Still OK! Proceed as usu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currSpeed &gt;= maxSpe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IsDead = tr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\tCurrSpeed = {0} ", currSpee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52280" y="76320"/>
            <a:ext cx="883944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ents Under the H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762120"/>
            <a:ext cx="883944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# event actually expands into two hidden public methods, on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having an add_ prefix; the other having a remove_ prefix. This prefix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s followed by the name of the C# ev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example, the Exploded event expands to the following method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2590920"/>
            <a:ext cx="8763120" cy="1557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The following event expands in CIL cod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add_Explode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remove_Exploded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event EngineHandler Explode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4267080"/>
            <a:ext cx="8839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addition to defining hidden add_XXX() and remove_XXX(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thods, each event also actually maps to a private class, which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ssociates the corresponding delegate to a given ev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this way, when an event is raised, each method maintained by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legate will be called. This is a convenient way to allow an object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broadcast the event to multipl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vent sink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76320"/>
            <a:ext cx="868680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(T) Generic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09480"/>
            <a:ext cx="8686800" cy="61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ist(T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lass is the generic equivalent of the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ArrayLi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lass. I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mplements the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2"/>
              </a:rPr>
              <a:t>IList(T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generic interface using an array whose siz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s dynamically increased as requi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ist(T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lass uses both an equality comparer and an order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mpar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hods such as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4"/>
              </a:rPr>
              <a:t>Contai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IndexOf, LastIndexOf, and Remove us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n equality comparer for the list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hods such as BinarySearch and Sort use an ordering compar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or the list element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ist(T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not guaranteed to be sorted. You must sort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ist(T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before performing operations (such as BinarySearch) th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quire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ist(T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o be sor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ments in this collection can be accessed using an integer index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dexes in this collection are zero-ba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28600" y="228600"/>
            <a:ext cx="8686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event (Exploded and AboutToBlow) is internally represent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s the following member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private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add_XXX() metho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emove_XXX() metho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52280" y="76320"/>
            <a:ext cx="861084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ening to Incoming Ev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609480"/>
            <a:ext cx="8686800" cy="44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ume you have now created an instance of the Car class and wish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isten to the events it is capable of send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goal is to create a method that represents the event sink th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ill be called by the related delegat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bind this method to the event, you need to call the correc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dd_XXX() method to ensure that your method is added to the lis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f function pointers maintained by the EngineHandler deleg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, you cannot call the CIL add_XXX() and remove_XXX(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irectly, but rather use the overloaded += and -= opera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you wish to listen to an event, follow the pattern shown he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5092560"/>
            <a:ext cx="8915400" cy="1557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I'm listening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ObjectVariable.EventName += new ObjectVariable.DelegateName(functionToCall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.Exploded += new Car.EngineHandler(OnBlowUp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28600" y="763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you wish to detach from a source of events, use the -=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perat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1066680"/>
            <a:ext cx="8686800" cy="1557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Shut up alread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ObjectVariable.EventName -= new ObjectVariable.DelegateName(functionToCall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.Exploded -= new Car.EngineHandler(OnBlowUp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16000" y="127080"/>
            <a:ext cx="8686800" cy="6700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// Make a car and listen to the ev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public class CarAp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ar c1 = new Car("SlugBug", 100, 10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// Hook into ev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ar.Exploded += new Car.EngineHandler(OnBlowUp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ar.AboutToBlow += new Car.EngineHandler(OnAboutToBlow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// Speed up (this will generate the events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for(int i = 0; i &lt; 10; i++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1.SpeedUp(20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// Detach from ev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ar.Exploded -= new Car.EngineHandler(OnBlowUp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ar.Exploded -= new Car.EngineHandler(OnAboutToBlow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// No response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for(int i = 0; i &lt; 10; i++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1.SpeedUp(20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// OnBlowUp event sink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public static void OnBlowUp(string 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onsole.WriteLine("Message from car: {0} ", 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// OnAboutToBlow event sink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public static void OnAboutToBlow(string 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onsole.WriteLine("Message from car: {0} ", 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28600" y="76320"/>
            <a:ext cx="87631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s As Event Sin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85800"/>
            <a:ext cx="86868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 are free to build a helper object to respond to an object's ev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et, much in the same way that you created a helper class to b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alled by all delega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example, let's move your event sink methods out of the CarApp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lass and into a new class named CarEventSin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2819520"/>
            <a:ext cx="8763120" cy="405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Car event si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EventSi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OnBlowUp event handl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OnBlowUp(string 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Console.WriteLine("Message from car: {0} ", s)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OnBlowUp event handler version 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OnBlowUp2(string 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Console.WriteLine("AGAIN I say: {0} ", s)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OnAboutToBlow handl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OnAboutToBlow(string 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Console.WriteLine("Message from car: {0} ", s)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228600"/>
            <a:ext cx="8610480" cy="5854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Note the creation and use of the CarEventSin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class Car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 c1 = new Car("SlugBug", 100, 1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Make the sink obj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EventSink sink = new CarEventSink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Hook into events using sink obj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.Exploded += new Car.EngineHandler(sink.OnBlowUp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.Exploded += new Car.EngineHandler(sink.OnBlowUp2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.AboutToBlow += new Car.EngineHandler(sink.OnAboutToBlow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(int i = 0; i &lt; 10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1.SpeedUp(2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Detach from events using sink obj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.Exploded -= new Car.EngineHandler(sink.OnBlowUp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.Exploded -= new Car.EngineHandler(sink.OnBlowUp2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.Exploded -= new Car.EngineHandler(sink.OnAboutToBlow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838080" y="1981080"/>
            <a:ext cx="7467840" cy="1556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dvanced C# Type Construction Techniqu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04920" y="152280"/>
            <a:ext cx="861048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dvanced Keywords of C#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7174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e you’ll examine some of the more esoteric C# keyword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ecked/uncheck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safe/stackalloc/fixed/size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1866960"/>
            <a:ext cx="868680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The checked Key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numerical data type has a fixed upper and lower limit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you are performing arithmetic operations on a specific type, it is very possible that you may accidentally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verflow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aximum storage of the type o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derflow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inimum storag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 the typ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ume you have created two System.Byte types (a C# byte), each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 which has been assigned a value that is safely below the maximum (255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were to add the values of these types, you would assum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 the result would be the exact sum of each memb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28600" y="228600"/>
            <a:ext cx="8763120" cy="5277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Overflow the max value of a System.By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Max value of byte is {0}.", byte.MaxValue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Min value of byte is {0}.", byte.MinValue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te b1 = 10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te b2 = 25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te sum = (byte)(b1 + b2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sum should hold the value 350, however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sum = {0}", sum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ReadLine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5486400"/>
            <a:ext cx="8763120" cy="1191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value of byte is 25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 value of byte is 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= 9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28600" y="228600"/>
            <a:ext cx="86868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will be surprised to find that sum contains the value 94 (rath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an the expected 350). The reason is simple. Given that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ystem.Byte can hold a value only between 0 and 255 (inclusive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or a grand total of 256 slots), sum now contains the overflow valu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(350 – 256 = 94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handle overflow or underflow conditions in your application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you have two options. Your first choice is to leverage your wits an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programming skills to handle all overflow conditions manual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uming you were indeed able to find each overflow condition i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your program, you could resolve the previous overflow error a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800600"/>
            <a:ext cx="8839080" cy="1557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Store sum in an integer to prevent overflo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te b1 = 10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te b2 = 25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= b1 + b2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76320"/>
            <a:ext cx="861048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Linked Li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533520"/>
            <a:ext cx="8534520" cy="6129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using System.Collections.Generic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using System.Tex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namespace Linked_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lass Linked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ff0000"/>
                </a:solidFill>
                <a:latin typeface="Times New Roman"/>
              </a:rPr>
              <a:t>List</a:t>
            </a:r>
            <a:r>
              <a:rPr b="1" sz="1800" spc="-1" strike="noStrike">
                <a:solidFill>
                  <a:srgbClr val="ff0000"/>
                </a:solidFill>
                <a:latin typeface="Times New Roman"/>
              </a:rPr>
              <a:t>&lt;object&gt;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ls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LinkedList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lst = new List&lt;object&gt;();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Create a li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\n Initial number of elements in the LL : " + lst.Coun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void insert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Clear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\n *********************************************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\n   1-----&gt; INSERTION AT THE BEGINNING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\n   2-----&gt; INSERTION AT THE ENDING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\n   3-----&gt; INSERTION AFTER CERTAIN NODES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\n *********************************************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28600" y="76320"/>
            <a:ext cx="87631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# provides the checked keywor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an overflow has occurred, the runtime will throw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ystem.OverflowException type. Observe the following upda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1447920"/>
            <a:ext cx="8686800" cy="5303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class Program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// Overflow the max value of a System.Byt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Console.WriteLine("Max value of byte is {0}.", byte.MaxValue)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byte b1 = 100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byte b2 = 250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ry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byte sum =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hecked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(byte)(b1 + b2))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Console.WriteLine("sum = {0}", sum);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catch(OverflowException e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{ Console.WriteLine(e.Message); }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280" y="15228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wish to force overflow checking to occur over a block of code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you can interact with the checked keyword as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2280" y="990720"/>
            <a:ext cx="8839440" cy="5691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 Progr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 Overflow the max value of a System.Byt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Max value of byte is {0}.", byte.MaxValu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yte b1 = 10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yte b2 = 25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eck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yte sum = (byte)(b1 + b2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sum = {0}", sum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tch(OverflowException 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e.Messag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2280" y="76320"/>
            <a:ext cx="883944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unchecked Key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6858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# language provides the unchecked keyword to disable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rowing of System.OverflowException on a case-by-case ba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1523880"/>
            <a:ext cx="8839440" cy="5204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 Progr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 Overflow the max value of a System.Byt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Max value of byte is {0}.", byte.MaxValu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yte b1 = 10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yte b2 = 25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check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yte sum = (byte)(b1 + b2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sum = {0}", sum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tch(OverflowException 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Console.WriteLine(e.Message);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228600"/>
            <a:ext cx="86868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you want to selectively handle discrete statements, make us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f the checked keywor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wish to trap overflow errors throughout your application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nable the /checked flag. Finally, the unchecked keyword may b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used if you have a block of code where overflow is acceptable (an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us should not trigger a runtime exceptio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28600" y="152280"/>
            <a:ext cx="868680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king with Pointer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762120"/>
            <a:ext cx="8763120" cy="27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.NET platform defines two major categories of data: value typ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nd reference typ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ever, there is a third category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ointer typ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To work with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pointer types, we are provided with specific operators and keyword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at allow us to bypass the CLR’s memory management scheme an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ake matters into our own h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7631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28600" y="228600"/>
            <a:ext cx="8763120" cy="56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exactly would you need to work with pointer types? There a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wo common situa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 are looking to optimize select parts of your applica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by directly manipulating memory outside the manage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of the CL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 are calling methods of a C-based *.dll or COM serv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that demand pointer types as para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decide to make use of this c# feature, you will be required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formcsc.exe of your intentions by enabling your project to suppor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“unsafe code.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do so using the C# command-line compiler (csc.exe), simpl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upply the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/unsaf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lag as an argu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7080" y="114480"/>
            <a:ext cx="899136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nsafe Key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2280" y="657360"/>
            <a:ext cx="883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you wish to work with pointers in C#, you must specificall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clare a block of “unsafe” code using the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unsaf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keyword (any cod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at is not marked with the unsafe keyword is considered “safe”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utomatically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2209680"/>
            <a:ext cx="8686800" cy="1313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saf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Work with pointer types her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36576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addition to declaring a scope of unsafe code, you are able to buil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tructures, classes, type members, and parameters that are “unsafe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4495680"/>
            <a:ext cx="8534160" cy="2228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This entire structure is 'unsafe' and can be used only in an unsafe con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saf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 N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int Valu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Node* Lef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Node* Righ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28600" y="136440"/>
            <a:ext cx="8610480" cy="2838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This struct is safe, but the Node* members are not. Technically, you ma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access 'Value' from outside an unsafe context, but not 'Left' and 'Right'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ruct N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int Valu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These can be accessed only in an unsafe context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saf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* Lef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saf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* Righ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2280" y="29718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hods may be marked as unsafe as well. Ensure that thi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thod can be called only from an unsafe contex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2280" y="3809880"/>
            <a:ext cx="8915400" cy="1191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saf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static void SomeUnsafeCode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Work with pointer types her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2280" y="5029200"/>
            <a:ext cx="8991720" cy="1739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configuration demands that the caller invoke SomeUnsafeCode() as s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saf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UnsafeCode(); 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52280" y="15228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other usage of unsafe……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685800"/>
            <a:ext cx="8610480" cy="4848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void SomeUnsafeCod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sa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Work with pointers her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would simplify the call to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UnsafeCod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8600" y="152280"/>
            <a:ext cx="8763120" cy="640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("\n\n Enter your choice: 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nt ch = int.Parse(Console.ReadLine(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tring st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witch (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ase 1: Console.Write("\n Enter the data: 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tr=Console.ReadLin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lst.Insert(0,str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\n {0} is inserted at the beginning.",str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ase 2: Console.Write("\n Enter the data: 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tr = Console.ReadLin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lst.Add(str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\n {0} is inserted at the ending.",str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ase 3: if (lst.Count ==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\n List is not built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("\n After how many nodes? : 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nt n = int.Parse(Console.ReadLine(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52280" y="76320"/>
            <a:ext cx="883944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ing with the * and &amp; Oper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733320"/>
            <a:ext cx="86868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ce you have established an unsafe context, you are free to buil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pointers to data types using the * operator and obtain the address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aid pointer using the &amp; operato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ing C#, the * operator is applied to the underlying type only, no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s a prefix to each pointer variable na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2955960"/>
            <a:ext cx="8763120" cy="1557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No! This is incorrect under C#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*pi, *pj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Yes! This is the way of C#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* pi, pj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52280" y="152280"/>
            <a:ext cx="8763120" cy="3448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unsaf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nt myIn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Define an int pointer, 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ssign it the address of myI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nt* ptrToMyInt = &amp;myIn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Assign value of myInt using pointer indire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*ptrToMyInt = 123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Print some sta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Value of myInt {0}", myInt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Address of myInt {0:X}", (int)&amp;ptrToMyInt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52280" y="76320"/>
            <a:ext cx="883944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Unsafe (and Safe) Swap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2280" y="685800"/>
            <a:ext cx="88394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laring pointers to local variables simply to assign their value i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ever required and not altogether usefu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illustrate a more practical example of unsafe code, assume you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ish to build a swap function using pointer arithmeti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2438280"/>
            <a:ext cx="8763120" cy="4208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class usaf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unsafe public static void UnsafeSwap(int* i, int* j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int temp = *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*i = *j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*j = te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public static void SafeSwap(ref int i, ref int j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int temp = 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i = j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j = te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52280" y="228600"/>
            <a:ext cx="8839440" cy="6285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Console.WriteLine("***** Calling method with unsafe code *****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// Values for sw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int i = 10, j = 2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// Swap values 'safely'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Console.WriteLine("\n***** Safe swap *****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Console.WriteLine("Values before safe swap: i = {0}, j = {1}", i, j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SafeSwap(ref i, ref j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Console.WriteLine("Values after safe swap: i = {0}, j = {1}", i, j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// Swap values 'unsafely'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Console.WriteLine("\n***** Unsafe swap *****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Console.WriteLine("Values before unsafe swap: i = {0}, j = {1}", i, j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unsaf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UnsafeSwap(&amp;i, &amp;j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Console.WriteLine("Values after unsafe swap: i = {0}, j = {1}", i, j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Console.ReadLine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52280" y="152280"/>
            <a:ext cx="87631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eld Access via Pointers (the -&gt; Oper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838080"/>
            <a:ext cx="8915400" cy="3143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 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int x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int 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override string ToString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tring.Format("({0}, {1})", x, y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52280" y="76320"/>
            <a:ext cx="8686800" cy="6677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oi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Access members via poin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saf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 poin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* p = &amp;poin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-&gt;x = 10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-&gt;y = 20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p-&gt;ToString(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Access members via pointer indir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saf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 poin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* p = &amp;poin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p).x = 10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*p).y = 20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(*p).ToString(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52280" y="152280"/>
            <a:ext cx="868680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ackalloc Key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838080"/>
            <a:ext cx="876312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an unsafe context, you may need to declare a local variable th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llocates memory directly from the call stac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do so, C# provides the stackalloc keyword, which is the C#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quivalent to the _alloca function of the C runtime libra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2743200"/>
            <a:ext cx="8686800" cy="2288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sa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* p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ckallo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[256]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(int k = 0; k &lt; 256; k++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[k] = (char)k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6320" y="76320"/>
            <a:ext cx="906768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nning a Type via the fixed Key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280" y="609480"/>
            <a:ext cx="883944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ocating a chunk of memory within an unsafe context may b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acilitated via the stackalloc keywor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the nature of this operation, the allocated memory is cleaned up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s soon as the allocating method has return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ring our examination of the -&gt; operator, you created a value typ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amed Point. Like all value types, the allocated memory is popp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ff the stack once the executing scope has termina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3581280"/>
            <a:ext cx="8686800" cy="3204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assume Point is defined a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&lt;= Now a clas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int x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int 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override string ToString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tring.Format("({0}, {1})", x, y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52280" y="152280"/>
            <a:ext cx="8839440" cy="68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caller declares a variable of type Point, the memory is allocat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n the garbage collected heap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n question is, what if an unsafe context wishes to interact with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is object (or any object on the heap)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iven that garbage collection can occur at any moment, where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weep of the heap is under w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possible that the unsafe context is attempting to interact with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mber that is no longer accessible or has been repositioned on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heap after surviving a generational swee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lock a reference type variable in memory from an unsafe context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# provides the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fix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keywor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ixed statement sets a pointer to a managed type and “pins” th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variable during the execution of stat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out fixed, pointers to managed variables would be of little use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ince garbage collection could relocate the variables unpredictab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52280" y="763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us, if you create a Point type and want to interact with it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mbers, you must write the following co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990720"/>
            <a:ext cx="8686800" cy="405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saf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ublic static void 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 pt = new Point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t.x = 5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t.y = 6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pin pt in place so it will not  be moved or GC-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xed (int* p = &amp;pt.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Use int* variable her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pt is now unpinned, and ready to be GC-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 ("Point is: {0}", pt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518148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8600" y="152280"/>
            <a:ext cx="8686800" cy="6677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f(n&gt;=1&amp;n&lt;lst.Cou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("\n Enter the data: 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tr = Console.ReadLin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lst.Insert(n,str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\n {0} is inserted after {1} nodes.", str, n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\n After {0} nodes, insertion is not possible !",n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default: Console.WriteLine("\n Sorry !!! Wrong  choice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void delete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f (lst.Count ==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\n LL is empty !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28600" y="304920"/>
            <a:ext cx="86868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ixed keyword allows you to build a statement that locks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ference variable in memory, such that its address remains consta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or the duration of the stat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y time you interact with a reference type from within the contex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f unsafe code, pinning the reference is a mu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52280" y="152280"/>
            <a:ext cx="89917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izeof Key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8380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 in C(++), the C# sizeof keyword is used to obtain the size i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bytes for a value type (never a reference type), and it may only b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used within an unsafe contex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2280" y="2057400"/>
            <a:ext cx="8915400" cy="1923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af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The size of short is {0}."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ze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hort)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The size of int is {0}."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ze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nt)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The size of long is {0}."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ze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long)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0440" y="411480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28600" y="2286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 sizeof will evaluate the number of bytes for an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ystem.ValueType-derived entity, you are able to obtain the size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ustom structures as wel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" y="1676520"/>
            <a:ext cx="8610480" cy="4362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 MyValue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hort 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int i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long 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af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The size of short is {0}."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ze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hort)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The size of int is {0}."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ze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nt)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The size of long is {0}."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ze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long)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The size of MyValueType is {0}."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zeo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MyValueType)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52280" y="76320"/>
            <a:ext cx="883944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ilding a Custom Index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2280" y="7621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 programmers, we are very familiar with the process of access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iscrete items held within a standard array using the index operat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2280" y="1676520"/>
            <a:ext cx="8915400" cy="1618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Declare an array of integ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[] myInts = { 10, 9, 100, 432, 9874}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Use the [] operator to access each ele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(int j = 0; j &lt; myInts.Length; j++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Index {0} = {1} ", j, myInts[j]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2280" y="3429000"/>
            <a:ext cx="883944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# language provides the capability to build custom classes th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ay be indexed just like an array of intrinsic typ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ethod that provides the capability to access items in thi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anner is termed 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ndex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28600" y="152280"/>
            <a:ext cx="8686800" cy="6497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Indexers allow you to access items in an array-like fash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CarAp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void 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Assume the Cars type has an indexer meth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s carLot = new Cars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Make some cars and add them to the car lo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Lot[0] = new Car("FeeFee", 200, 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Lot[1] = new Car("Clunker", 90, 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Lot[2] = new Car("Zippy", 30, 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Now obtain and display each it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(int i = 0; i &lt; 3; i++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Car number {0} :", i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Name: {0} ", carLot[i].PetName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Max speed: {0} "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Lot[i].MaxSpeed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52280" y="228600"/>
            <a:ext cx="883944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exers behave much like a custom collection supporting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Enumerator and IEnumerable interfac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only major difference is that rather than accessing the content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using interface references, you are able to manipulate the interna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llection of automobiles just like a standard arr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 you configure the Cars class (or any class) to do so?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dexer itself is represented as a slightly mangled C# propert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its simplest form, an indexer is created using the this[] syntax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52280" y="76320"/>
            <a:ext cx="8839440" cy="5934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Add the indexer to the existing class definiti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ublic class Cars : IEnumer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To contain the car typ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ivate ArrayList carArray = new ArrayList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The indexer returns a Car based on a numerical index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ublic Car this[int pos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Accessor returns an item in the arra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f(pos &lt; 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row new IndexOutOfRangeException("Out of range!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 (Car)carArray[pos]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Or simply call carArray.Add(valu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rArray.Insert(pos, valu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6019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yond the use of the "this" keyword, the indexer looks just like an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ther C# property declar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76320" y="136440"/>
            <a:ext cx="8991360" cy="703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Use System.Array.Length? Nop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Cars in stock: {0} ", carLot.Length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2280" y="99072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support this functionality, you would need to add your ow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Length property to the Cars type, and delegate according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52280" y="1828800"/>
            <a:ext cx="8839440" cy="1923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C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Containment/delegation in action once agai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int Length() { carArray.Count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86B3-823F-4E29-B94B-2D0B6525B14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228600" y="152280"/>
            <a:ext cx="8610480" cy="520560"/>
          </a:xfrm>
          <a:prstGeom prst="rect">
            <a:avLst/>
          </a:prstGeom>
          <a:solidFill>
            <a:srgbClr val="ffc00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derstanding Operator Overlo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228600" y="914400"/>
            <a:ext cx="861048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# has a canned set of tokens that are used to perform basic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perations on intrinsic typ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example, we know that the + operator can be applied to two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tegers in order to yield a larger integ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5"/>
          <p:cNvSpPr/>
          <p:nvPr/>
        </p:nvSpPr>
        <p:spPr>
          <a:xfrm>
            <a:off x="304920" y="2666880"/>
            <a:ext cx="8458200" cy="13136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The + operator with i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a = 10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b = 24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c = a + b; // c is now 3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Box 6"/>
          <p:cNvSpPr/>
          <p:nvPr/>
        </p:nvSpPr>
        <p:spPr>
          <a:xfrm>
            <a:off x="304920" y="41911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ame + operator can be applied to most intrinsic C# data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ypes. For example, consider this co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Box 7"/>
          <p:cNvSpPr/>
          <p:nvPr/>
        </p:nvSpPr>
        <p:spPr>
          <a:xfrm>
            <a:off x="380880" y="5153040"/>
            <a:ext cx="8458200" cy="131364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+ operator with string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 s1 = "Hello"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 s2 = " world!"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 s3 = s1 + s2; // s3 is now "Hello world!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9805-84F5-41CF-9322-286C98757A4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Box 3"/>
          <p:cNvSpPr/>
          <p:nvPr/>
        </p:nvSpPr>
        <p:spPr>
          <a:xfrm>
            <a:off x="228600" y="152280"/>
            <a:ext cx="86868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essence, the + operator functions in unique ways based on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upplied data types (strings or integers in this cas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the + operator is applied to numerical types, the result is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ummation of the operands. When the + operator is  applied to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tring types, the result is string concate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152280" y="2362320"/>
            <a:ext cx="88725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600" y="228600"/>
            <a:ext cx="8686800" cy="627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onsole.Clea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onsole.WriteLine("\n *********************************************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onsole.WriteLine("\n   1-----&gt; DELETION (FIRST OCCURENCE)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onsole.WriteLine("\n   2-----&gt; DELETION  AT A SPECIFIED POSITION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onsole.WriteLine("\n   3-----&gt; DELETION OF ALL THE ELEMENTS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onsole.WriteLine("\n *********************************************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onsole.Write("\n\n Enter your choice: 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int ch = int.Parse(Console.ReadLine(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switch (ch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ase 1: Console.Write("\n Enter the data: 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string str = Console.ReadLin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if (lst.Contains(str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lst.Remove(str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onsole.WriteLine("\n First occurence of {0} is deleted.", str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onsole.WriteLine("\n The data '{0}' doesn't exist.", str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ase 2: Console.Write("\n Enter the position : 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int n = int.Parse(Console.ReadLine(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if (n &gt;= 1 &amp; n &lt;= lst.Coun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lst.RemoveAt(n - 1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onsole.WriteLine("\n Element at the position {0} is deleted.", n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666B-D59F-407D-8DCA-B5DF3480940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3"/>
          <p:cNvSpPr/>
          <p:nvPr/>
        </p:nvSpPr>
        <p:spPr>
          <a:xfrm>
            <a:off x="228600" y="228600"/>
            <a:ext cx="8686800" cy="593460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class Poi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vate int x, y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ublic Point(int xPos, int yPo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 = xPos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 = yPos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static Point operator +(Point p1, Point p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 new Point (p1.x + p2.x, p1.y + p2.y)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static Point operator -(Point p1, Point p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 new Point(p1.x - p2.x, p1.y - p2.y)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override string ToString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 string.Format("[{0}, {1}]", this.x, this.y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DCFD-9EE5-46C1-9EB9-680E93B884B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Box 3"/>
          <p:cNvSpPr/>
          <p:nvPr/>
        </p:nvSpPr>
        <p:spPr>
          <a:xfrm>
            <a:off x="228600" y="228600"/>
            <a:ext cx="8686800" cy="55825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***** Fun with Overloaded Operators *****\n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Make two poin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 ptOne = new Point(100, 10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 ptTwo = new Point(40, 4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ptOne = {0}", ptOne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ptTwo = {0}", ptTwo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Add the points to make a bigger poi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ptOne + ptTwo: {0} ", ptOne + ptTwo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Subtract the points to make a smaller poi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ptOne - ptTwo: {0} ", ptOne - ptTwo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ReadLine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0745-D295-4627-9EAF-7842FA1D152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304920" y="152280"/>
            <a:ext cx="8686800" cy="6421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// overloading + oper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lass Comp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double x, y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Complex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Complex(double real, double imag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x = rea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y = imag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static Complex operator +(Complex c1, Complex c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mplex c3 = new Complex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3.x = c1.x + c2.x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3.y = c1.y + c2.y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return (c3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void display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(x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"+j" + y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271D-11CD-4141-BD35-B738C627431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228600" y="152280"/>
            <a:ext cx="8763120" cy="4667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ass ComplexT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mplex a= new Complex(2.5,3.5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mplex b= new Complex(1.6,2.7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mplex c = a + b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(" a = 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.display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(" b = 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.display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(" c = 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.display();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28600" y="228600"/>
            <a:ext cx="8686800" cy="61779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"\n Not a valid position to delete !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ase 3: lst.Clear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"\n All the elements are deleted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default: Console.WriteLine("\n Sorry !!! Wrong  choice.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void status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if (lst.Count == 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"\n LL is empty !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"\n LL contains {0} elements.", lst.Coun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("\n The elements are : 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for (int i = 0; i &lt; lst.Count; i++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(lst[i] + "\t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4T13:24:27Z</dcterms:created>
  <dc:creator>Hemanth</dc:creator>
  <dc:description/>
  <dc:language>en-US</dc:language>
  <cp:lastModifiedBy>Hemanth</cp:lastModifiedBy>
  <dcterms:modified xsi:type="dcterms:W3CDTF">2011-11-07T13:38:54Z</dcterms:modified>
  <cp:revision>236</cp:revision>
  <dc:subject/>
  <dc:title>Slide 1</dc:title>
</cp:coreProperties>
</file>